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495-A282-446D-8483-F029C324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052-DDFE-4AC5-96EE-11C01F3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0AF-7F13-4B0D-A1EC-24EE57F1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F54-1E7E-4F9F-BFD9-CC7CF145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F779-674F-4621-A274-7A47C3ED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8D84-A639-4B3E-8C80-8673B5AD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80FC-9A9E-4E8E-8F11-C196AB35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458B-5946-41AB-BD8F-1538165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892-12F9-468B-8597-6A1D6AB2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64E-8797-45F9-8BDE-77B36CB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682D-604B-45CB-A97F-870587F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7F6-C1F5-46D8-BF0F-4FBE090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DCF-409C-47B9-8E43-8555FFA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7D41-C45E-47D2-AC90-85FDB45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BF0-6715-4A23-9B24-DC489F0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94EB-F323-4372-BBD4-F539542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8789-BA82-41B6-AF3F-CDCDAB52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A52-6B78-40F6-AD4A-7B800A09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6CB-B11E-4C6E-AACA-B269C1E0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B01-1B69-4678-A8ED-99355E0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6C3-D1FD-4AF8-9E12-8B5255D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FDE-BAE0-4036-AB29-121E533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198-0437-4CE9-84A8-4694D73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B9A-E1DD-43FB-A271-55F1D2F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EF1-7AC9-4991-90BD-BFFBECEA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E00-9783-42FC-9DBA-6AC1C805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: The Molecule of Here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The process continues until the entire molecule had been unzipped and repl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Each new strand formed is a complement of one of the original, or parent strand. Which form 2 DNA molecules identical to the original. (semiconservative 1 parent strand 1 new str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achieves its control by producing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tructures &amp; activities depend on proteins (enzym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a very long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</a:t>
            </a:r>
            <a:r>
              <a:rPr b="0" lang="en-US" sz="3200" spc="-1" strike="noStrike">
                <a:solidFill>
                  <a:srgbClr val="000000"/>
                </a:solidFill>
                <a:latin typeface="MathScience"/>
                <a:ea typeface="MathScience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cleic acid</a:t>
            </a:r>
            <a:r>
              <a:rPr b="0" lang="en-US" sz="3200" spc="-1" strike="noStrike">
                <a:solidFill>
                  <a:srgbClr val="000000"/>
                </a:solidFill>
                <a:latin typeface="MathScience"/>
                <a:ea typeface="MathScience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cleo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: sugar, phosphate, nitrogen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trogen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trogen base is an organic ring structure that contains one or more atoms of nit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NA there are four possible nitrogen 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son and Crick are credit with discovering the structure of 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chain of nucleotides, the sugar of one nucleotide is joined to the phosphate group of the next nucleotide by covalent b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chains of nucleotides in a DNA molecule are held together by weak hydrogen bonds between the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bases on the same rung are referred to as base pairs. They are complementary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nly bonds with T and G only bonds with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iring produces a long two stranded molecule similar to a lad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des of the ladder are the sugar and phosphate. The rungs of the ladder are the nitrogen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adder is twisted forming a double hel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he genetic code or blue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closely related the organism, the more alike the order of nucleotides in their DNA will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DNA to determine evolutionary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cation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copied in a process called replication. Without replicating, cells would only have half of the genet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strands on the DNA molecule each serve as a pattern to make a new DNA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zymes break hydrogen bonds between the bases. So the DNA begins to unz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s it continues to unzip free nucleotides from the surroundings in the nucleus bond to the single  strands by base pai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nother enzyme bonds these new nucleotides to the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8:42:47Z</dcterms:created>
  <dc:creator>pchs</dc:creator>
  <dc:description/>
  <dc:language>en-US</dc:language>
  <cp:lastModifiedBy>pchs</cp:lastModifiedBy>
  <dcterms:modified xsi:type="dcterms:W3CDTF">2002-01-28T13:49:33Z</dcterms:modified>
  <cp:revision>2</cp:revision>
  <dc:subject/>
  <dc:title>DNA: The Molecule of Heredity</dc:title>
</cp:coreProperties>
</file>